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380880"/>
            <a:ext cx="32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ATSBY SCIENCE ENHANCEMENT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91120" y="333360"/>
            <a:ext cx="47242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NOVATIONS IN PRACTICAL WORK: METALS AND SMART ALLO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odel of a robot 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73360" y="1143000"/>
            <a:ext cx="34718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ing the current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mart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1680" y="1828800"/>
            <a:ext cx="49388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o-way smart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90720" y="1511280"/>
            <a:ext cx="3232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-way smart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35360" y="1463760"/>
            <a:ext cx="3192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erelastic all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12960" y="1461960"/>
            <a:ext cx="3286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amiliar change – melting and 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0310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mart alloys – changing from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m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81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s the transition temperature of a two-way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16160" y="1371600"/>
            <a:ext cx="29098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a water bath at an intermediate temperature to demonstrate hyste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1360" y="1828800"/>
            <a:ext cx="4121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fting a load using a smart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23920" y="965160"/>
            <a:ext cx="5094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ying a sup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ic wire around a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74840" y="1828800"/>
            <a:ext cx="45943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tching a piece of superelastic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1600200"/>
            <a:ext cx="3738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sing a current to train a piece of memory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20144"/>
          <a:stretch/>
        </p:blipFill>
        <p:spPr>
          <a:xfrm>
            <a:off x="533520" y="1219320"/>
            <a:ext cx="73911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the shape of the memory wire after coo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2920" y="1295280"/>
            <a:ext cx="4176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ing the behaviour of smart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28840" y="884160"/>
            <a:ext cx="248616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6:06:17Z</dcterms:created>
  <dc:creator>SEP</dc:creator>
  <dc:description/>
  <dc:language>en-US</dc:language>
  <cp:lastModifiedBy>stbanksg</cp:lastModifiedBy>
  <dcterms:modified xsi:type="dcterms:W3CDTF">2007-03-13T12:48:49Z</dcterms:modified>
  <cp:revision>20</cp:revision>
  <dc:subject/>
  <dc:title>PowerPoint Presentation</dc:title>
</cp:coreProperties>
</file>